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7.wmf" ContentType="image/x-wmf"/>
  <Override PartName="/ppt/media/image12.wmf" ContentType="image/x-wmf"/>
  <Override PartName="/ppt/media/image8.png" ContentType="image/png"/>
  <Override PartName="/ppt/media/image18.png" ContentType="image/png"/>
  <Override PartName="/ppt/media/image15.jpeg" ContentType="image/jpeg"/>
  <Override PartName="/ppt/media/image16.gif" ContentType="image/gif"/>
  <Override PartName="/ppt/media/image14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516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516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516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516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516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516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516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651672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516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516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516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516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516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516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516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516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516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516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651672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516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516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516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image" Target="../media/image3.jpeg"/><Relationship Id="rId10" Type="http://schemas.openxmlformats.org/officeDocument/2006/relationships/image" Target="../media/image5.jpe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1.xml"/><Relationship Id="rId15" Type="http://schemas.openxmlformats.org/officeDocument/2006/relationships/slideLayout" Target="../slideLayouts/slideLayout2.xml"/><Relationship Id="rId16" Type="http://schemas.openxmlformats.org/officeDocument/2006/relationships/slideLayout" Target="../slideLayouts/slideLayout3.xml"/><Relationship Id="rId17" Type="http://schemas.openxmlformats.org/officeDocument/2006/relationships/slideLayout" Target="../slideLayouts/slideLayout4.xml"/><Relationship Id="rId18" Type="http://schemas.openxmlformats.org/officeDocument/2006/relationships/slideLayout" Target="../slideLayouts/slideLayout5.xml"/><Relationship Id="rId19" Type="http://schemas.openxmlformats.org/officeDocument/2006/relationships/slideLayout" Target="../slideLayouts/slideLayout6.xml"/><Relationship Id="rId20" Type="http://schemas.openxmlformats.org/officeDocument/2006/relationships/slideLayout" Target="../slideLayouts/slideLayout7.xml"/><Relationship Id="rId21" Type="http://schemas.openxmlformats.org/officeDocument/2006/relationships/slideLayout" Target="../slideLayouts/slideLayout8.xml"/><Relationship Id="rId22" Type="http://schemas.openxmlformats.org/officeDocument/2006/relationships/slideLayout" Target="../slideLayouts/slideLayout9.xml"/><Relationship Id="rId23" Type="http://schemas.openxmlformats.org/officeDocument/2006/relationships/slideLayout" Target="../slideLayouts/slideLayout10.xml"/><Relationship Id="rId24" Type="http://schemas.openxmlformats.org/officeDocument/2006/relationships/slideLayout" Target="../slideLayouts/slideLayout11.xml"/><Relationship Id="rId2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1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669000"/>
            <a:ext cx="9144000" cy="1666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7032600" y="663732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cc"/>
                </a:solidFill>
                <a:latin typeface="Arial"/>
                <a:ea typeface="Arial"/>
              </a:rPr>
              <a:t>© Boardworks Ltd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7236000" cy="21888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4"/>
          <a:srcRect l="4903" t="7433" r="6936" b="10843"/>
          <a:stretch/>
        </p:blipFill>
        <p:spPr>
          <a:xfrm>
            <a:off x="7885080" y="0"/>
            <a:ext cx="1219320" cy="74448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459640" y="6093000"/>
            <a:ext cx="501840" cy="53172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6"/>
          <a:stretch/>
        </p:blipFill>
        <p:spPr>
          <a:xfrm>
            <a:off x="179280" y="6093000"/>
            <a:ext cx="542880" cy="5760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720" y="661032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1 of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7"/>
          <a:stretch/>
        </p:blipFill>
        <p:spPr>
          <a:xfrm>
            <a:off x="0" y="6669000"/>
            <a:ext cx="9144000" cy="1666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7032600" y="663732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cc"/>
                </a:solidFill>
                <a:latin typeface="Arial"/>
                <a:ea typeface="Arial"/>
              </a:rPr>
              <a:t>© Boardworks Ltd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8"/>
          <a:stretch/>
        </p:blipFill>
        <p:spPr>
          <a:xfrm>
            <a:off x="0" y="549360"/>
            <a:ext cx="7236000" cy="218880"/>
          </a:xfrm>
          <a:prstGeom prst="rect">
            <a:avLst/>
          </a:prstGeom>
          <a:ln w="0">
            <a:noFill/>
          </a:ln>
        </p:spPr>
      </p:pic>
      <p:pic>
        <p:nvPicPr>
          <p:cNvPr id="10" name="" descr=""/>
          <p:cNvPicPr/>
          <p:nvPr/>
        </p:nvPicPr>
        <p:blipFill>
          <a:blip r:embed="rId9"/>
          <a:srcRect l="4903" t="7433" r="6936" b="10843"/>
          <a:stretch/>
        </p:blipFill>
        <p:spPr>
          <a:xfrm>
            <a:off x="7885080" y="0"/>
            <a:ext cx="1219320" cy="744480"/>
          </a:xfrm>
          <a:prstGeom prst="rect">
            <a:avLst/>
          </a:prstGeom>
          <a:ln w="0">
            <a:noFill/>
          </a:ln>
        </p:spPr>
      </p:pic>
      <p:pic>
        <p:nvPicPr>
          <p:cNvPr id="11" name="" descr="">
            <a:hlinkClick r:id="" action="ppaction://hlinkshowjump?jump=previousslide"/>
          </p:cNvPr>
          <p:cNvPicPr/>
          <p:nvPr/>
        </p:nvPicPr>
        <p:blipFill>
          <a:blip r:embed="rId10"/>
          <a:stretch/>
        </p:blipFill>
        <p:spPr>
          <a:xfrm>
            <a:off x="179280" y="6093000"/>
            <a:ext cx="542880" cy="576000"/>
          </a:xfrm>
          <a:prstGeom prst="rect">
            <a:avLst/>
          </a:prstGeom>
          <a:ln w="0">
            <a:noFill/>
          </a:ln>
        </p:spPr>
      </p:pic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516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0" y="6620040"/>
            <a:ext cx="111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01A51-DEBF-4119-9BA7-839E51829E75}" type="slidenum">
              <a:rPr b="1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 of 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237960" y="82440"/>
            <a:ext cx="360360" cy="360360"/>
            <a:chOff x="237960" y="82440"/>
            <a:chExt cx="360360" cy="360360"/>
          </a:xfrm>
        </p:grpSpPr>
        <p:grpSp>
          <p:nvGrpSpPr>
            <p:cNvPr id="15" name=""/>
            <p:cNvGrpSpPr/>
            <p:nvPr/>
          </p:nvGrpSpPr>
          <p:grpSpPr>
            <a:xfrm>
              <a:off x="237960" y="82440"/>
              <a:ext cx="360360" cy="360360"/>
              <a:chOff x="237960" y="82440"/>
              <a:chExt cx="360360" cy="360360"/>
            </a:xfrm>
          </p:grpSpPr>
          <p:grpSp>
            <p:nvGrpSpPr>
              <p:cNvPr id="16" name=""/>
              <p:cNvGrpSpPr/>
              <p:nvPr/>
            </p:nvGrpSpPr>
            <p:grpSpPr>
              <a:xfrm>
                <a:off x="237960" y="82440"/>
                <a:ext cx="360360" cy="360360"/>
                <a:chOff x="237960" y="82440"/>
                <a:chExt cx="360360" cy="360360"/>
              </a:xfrm>
            </p:grpSpPr>
            <p:sp>
              <p:nvSpPr>
                <p:cNvPr id="17" name=""/>
                <p:cNvSpPr/>
                <p:nvPr/>
              </p:nvSpPr>
              <p:spPr>
                <a:xfrm>
                  <a:off x="237960" y="82440"/>
                  <a:ext cx="360360" cy="360360"/>
                </a:xfrm>
                <a:prstGeom prst="ellipse">
                  <a:avLst/>
                </a:prstGeom>
                <a:solidFill>
                  <a:srgbClr val="01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8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264600" y="108000"/>
                  <a:ext cx="308880" cy="308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9" name=""/>
              <p:cNvSpPr/>
              <p:nvPr/>
            </p:nvSpPr>
            <p:spPr>
              <a:xfrm>
                <a:off x="268200" y="109800"/>
                <a:ext cx="303480" cy="30348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0" name="" descr=""/>
            <p:cNvPicPr/>
            <p:nvPr/>
          </p:nvPicPr>
          <p:blipFill>
            <a:blip r:embed="rId12"/>
            <a:srcRect l="0" t="0" r="23623" b="0"/>
            <a:stretch/>
          </p:blipFill>
          <p:spPr>
            <a:xfrm>
              <a:off x="272880" y="179280"/>
              <a:ext cx="230040" cy="22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" descr=""/>
            <p:cNvPicPr/>
            <p:nvPr/>
          </p:nvPicPr>
          <p:blipFill>
            <a:blip r:embed="rId13"/>
            <a:stretch/>
          </p:blipFill>
          <p:spPr>
            <a:xfrm>
              <a:off x="412560" y="129960"/>
              <a:ext cx="125280" cy="125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4"/>
    <p:sldLayoutId id="2147483650" r:id="rId15"/>
    <p:sldLayoutId id="2147483651" r:id="rId16"/>
    <p:sldLayoutId id="2147483652" r:id="rId17"/>
    <p:sldLayoutId id="2147483653" r:id="rId18"/>
    <p:sldLayoutId id="2147483654" r:id="rId19"/>
    <p:sldLayoutId id="2147483655" r:id="rId20"/>
    <p:sldLayoutId id="2147483656" r:id="rId21"/>
    <p:sldLayoutId id="2147483657" r:id="rId22"/>
    <p:sldLayoutId id="2147483658" r:id="rId23"/>
    <p:sldLayoutId id="2147483659" r:id="rId24"/>
    <p:sldLayoutId id="2147483660" r:id="rId2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6669000"/>
            <a:ext cx="9144000" cy="1666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32600" y="663732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cc"/>
                </a:solidFill>
                <a:latin typeface="Arial"/>
                <a:ea typeface="Arial"/>
              </a:rPr>
              <a:t>© Boardworks Ltd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rcRect l="4903" t="7433" r="6936" b="10843"/>
          <a:stretch/>
        </p:blipFill>
        <p:spPr>
          <a:xfrm>
            <a:off x="7885080" y="0"/>
            <a:ext cx="1219320" cy="7444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459640" y="6093000"/>
            <a:ext cx="501840" cy="5317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720" y="66070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1 of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0" y="6669000"/>
            <a:ext cx="9144000" cy="1666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032600" y="663732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cc"/>
                </a:solidFill>
                <a:latin typeface="Arial"/>
                <a:ea typeface="Arial"/>
              </a:rPr>
              <a:t>© Boardworks Ltd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6"/>
          <a:srcRect l="4903" t="7433" r="6936" b="10843"/>
          <a:stretch/>
        </p:blipFill>
        <p:spPr>
          <a:xfrm>
            <a:off x="7885080" y="0"/>
            <a:ext cx="1219320" cy="7444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6620040"/>
            <a:ext cx="111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5433D-3BB7-4513-8286-F06ADCE8E2B5}" type="slidenum">
              <a:rPr b="1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 of 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09440" y="773280"/>
            <a:ext cx="5578560" cy="5578200"/>
          </a:xfrm>
          <a:prstGeom prst="ellipse">
            <a:avLst/>
          </a:prstGeom>
          <a:solidFill>
            <a:srgbClr val="01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37200" y="466560"/>
            <a:ext cx="2266920" cy="2267280"/>
          </a:xfrm>
          <a:prstGeom prst="ellipse">
            <a:avLst/>
          </a:prstGeom>
          <a:solidFill>
            <a:srgbClr val="01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08720" y="2575080"/>
            <a:ext cx="2266920" cy="2266920"/>
          </a:xfrm>
          <a:prstGeom prst="ellipse">
            <a:avLst/>
          </a:prstGeom>
          <a:solidFill>
            <a:srgbClr val="01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2360" y="928800"/>
            <a:ext cx="5289480" cy="5289480"/>
          </a:xfrm>
          <a:prstGeom prst="ellipse">
            <a:avLst/>
          </a:prstGeom>
          <a:noFill/>
          <a:ln w="279360">
            <a:solidFill>
              <a:srgbClr val="01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424640" y="6208560"/>
            <a:ext cx="952560" cy="266760"/>
          </a:xfrm>
          <a:prstGeom prst="rect">
            <a:avLst/>
          </a:prstGeom>
          <a:ln w="0">
            <a:noFill/>
          </a:ln>
        </p:spPr>
      </p:pic>
      <p:grpSp>
        <p:nvGrpSpPr>
          <p:cNvPr id="111" name=""/>
          <p:cNvGrpSpPr/>
          <p:nvPr/>
        </p:nvGrpSpPr>
        <p:grpSpPr>
          <a:xfrm>
            <a:off x="396720" y="1052640"/>
            <a:ext cx="5038920" cy="5038560"/>
            <a:chOff x="396720" y="1052640"/>
            <a:chExt cx="5038920" cy="5038560"/>
          </a:xfrm>
        </p:grpSpPr>
        <p:sp>
          <p:nvSpPr>
            <p:cNvPr id="112" name=""/>
            <p:cNvSpPr/>
            <p:nvPr/>
          </p:nvSpPr>
          <p:spPr>
            <a:xfrm>
              <a:off x="396720" y="1052640"/>
              <a:ext cx="5038920" cy="503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3" name="" descr=""/>
            <p:cNvPicPr/>
            <p:nvPr/>
          </p:nvPicPr>
          <p:blipFill>
            <a:blip r:embed="rId2"/>
            <a:srcRect l="0" t="0" r="23623" b="0"/>
            <a:stretch/>
          </p:blipFill>
          <p:spPr>
            <a:xfrm>
              <a:off x="541440" y="2411280"/>
              <a:ext cx="3517920" cy="345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3"/>
            <a:stretch/>
          </p:blipFill>
          <p:spPr>
            <a:xfrm>
              <a:off x="2762280" y="1406520"/>
              <a:ext cx="2093760" cy="2093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5" name=""/>
          <p:cNvGrpSpPr/>
          <p:nvPr/>
        </p:nvGrpSpPr>
        <p:grpSpPr>
          <a:xfrm>
            <a:off x="5229360" y="549360"/>
            <a:ext cx="2087280" cy="2087640"/>
            <a:chOff x="5229360" y="549360"/>
            <a:chExt cx="2087280" cy="2087640"/>
          </a:xfrm>
        </p:grpSpPr>
        <p:sp>
          <p:nvSpPr>
            <p:cNvPr id="116" name=""/>
            <p:cNvSpPr/>
            <p:nvPr/>
          </p:nvSpPr>
          <p:spPr>
            <a:xfrm>
              <a:off x="5229360" y="549360"/>
              <a:ext cx="2087280" cy="2087640"/>
            </a:xfrm>
            <a:prstGeom prst="ellipse">
              <a:avLst/>
            </a:prstGeom>
            <a:solidFill>
              <a:srgbClr val="ff00ff"/>
            </a:solidFill>
            <a:ln w="177840">
              <a:solidFill>
                <a:srgbClr val="01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7" name="" descr=""/>
            <p:cNvPicPr/>
            <p:nvPr/>
          </p:nvPicPr>
          <p:blipFill>
            <a:blip r:embed="rId4"/>
            <a:srcRect l="0" t="0" r="18898" b="0"/>
            <a:stretch/>
          </p:blipFill>
          <p:spPr>
            <a:xfrm>
              <a:off x="5392800" y="703440"/>
              <a:ext cx="1903320" cy="176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8" name=""/>
          <p:cNvGrpSpPr/>
          <p:nvPr/>
        </p:nvGrpSpPr>
        <p:grpSpPr>
          <a:xfrm>
            <a:off x="5597640" y="2664000"/>
            <a:ext cx="2087280" cy="2087280"/>
            <a:chOff x="5597640" y="2664000"/>
            <a:chExt cx="2087280" cy="2087280"/>
          </a:xfrm>
        </p:grpSpPr>
        <p:sp>
          <p:nvSpPr>
            <p:cNvPr id="119" name=""/>
            <p:cNvSpPr/>
            <p:nvPr/>
          </p:nvSpPr>
          <p:spPr>
            <a:xfrm>
              <a:off x="5597640" y="2664000"/>
              <a:ext cx="2087280" cy="2087280"/>
            </a:xfrm>
            <a:prstGeom prst="ellipse">
              <a:avLst/>
            </a:prstGeom>
            <a:solidFill>
              <a:srgbClr val="ff00ff"/>
            </a:solidFill>
            <a:ln w="177840">
              <a:solidFill>
                <a:srgbClr val="01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0" name="" descr=""/>
            <p:cNvPicPr/>
            <p:nvPr/>
          </p:nvPicPr>
          <p:blipFill>
            <a:blip r:embed="rId5"/>
            <a:stretch/>
          </p:blipFill>
          <p:spPr>
            <a:xfrm>
              <a:off x="5761080" y="2819520"/>
              <a:ext cx="1763640" cy="176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" name=""/>
          <p:cNvSpPr txBox="1"/>
          <p:nvPr/>
        </p:nvSpPr>
        <p:spPr>
          <a:xfrm>
            <a:off x="376920" y="313560"/>
            <a:ext cx="4861800" cy="731160"/>
          </a:xfrm>
          <a:prstGeom prst="rect">
            <a:avLst/>
          </a:prstGeom>
          <a:solidFill>
            <a:srgbClr val="010066"/>
          </a:solidFill>
          <a:ln w="63360">
            <a:solidFill>
              <a:srgbClr val="9900cc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KS3 Physics</a:t>
            </a:r>
            <a:endParaRPr b="1" lang="en-US" sz="44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700520" y="4997520"/>
            <a:ext cx="4206960" cy="750960"/>
          </a:xfrm>
          <a:prstGeom prst="rect">
            <a:avLst/>
          </a:prstGeom>
          <a:solidFill>
            <a:srgbClr val="010066"/>
          </a:solidFill>
          <a:ln w="63360">
            <a:solidFill>
              <a:srgbClr val="9900cc"/>
            </a:solidFill>
            <a:miter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7K Forces and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their Effec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9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573120" y="70344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Friction</a:t>
            </a: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always tries to slow moving objects down.  We say it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opposes motion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11280" y="400536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There is a maximum value for the frictional force which depends 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516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More about friction</a:t>
            </a:r>
            <a:endParaRPr b="1" lang="en-US" sz="2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69880" y="179532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Friction is created whenever two touching objects or surfaces move past each 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69880" y="289080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Friction also occurs when things move through air.  This is called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air resistance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or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drag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8040" y="492588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00000"/>
              </a:lnSpc>
              <a:spcBef>
                <a:spcPts val="1500"/>
              </a:spcBef>
              <a:buClr>
                <a:srgbClr val="cc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the force pushing the two surfaces togeth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520" y="546588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cc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the state of the surfaces in conta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106640" y="1670040"/>
            <a:ext cx="7332480" cy="43434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3584520" y="3129120"/>
            <a:ext cx="2889360" cy="70380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more?  Probably the most important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67000" y="700560"/>
            <a:ext cx="71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Label all sources of friction that can act on this bi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685800" y="5899320"/>
            <a:ext cx="1886040" cy="627480"/>
            <a:chOff x="685800" y="5899320"/>
            <a:chExt cx="1886040" cy="627480"/>
          </a:xfrm>
        </p:grpSpPr>
        <p:sp>
          <p:nvSpPr>
            <p:cNvPr id="204" name=""/>
            <p:cNvSpPr/>
            <p:nvPr/>
          </p:nvSpPr>
          <p:spPr>
            <a:xfrm>
              <a:off x="685800" y="6127920"/>
              <a:ext cx="1886040" cy="3988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yre and ro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1816200" y="5899320"/>
              <a:ext cx="698400" cy="234720"/>
            </a:xfrm>
            <a:prstGeom prst="line">
              <a:avLst/>
            </a:prstGeom>
            <a:ln w="63360">
              <a:solidFill>
                <a:srgbClr val="ff66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6540120" y="1103400"/>
            <a:ext cx="2300760" cy="2401920"/>
            <a:chOff x="6540120" y="1103400"/>
            <a:chExt cx="2300760" cy="2401920"/>
          </a:xfrm>
        </p:grpSpPr>
        <p:sp>
          <p:nvSpPr>
            <p:cNvPr id="207" name=""/>
            <p:cNvSpPr/>
            <p:nvPr/>
          </p:nvSpPr>
          <p:spPr>
            <a:xfrm flipH="1">
              <a:off x="6540120" y="1562040"/>
              <a:ext cx="482760" cy="1943280"/>
            </a:xfrm>
            <a:prstGeom prst="line">
              <a:avLst/>
            </a:prstGeom>
            <a:ln w="63360">
              <a:solidFill>
                <a:srgbClr val="ff66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954840" y="1103400"/>
              <a:ext cx="1886040" cy="7038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brake pad and ri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6858000" y="2309760"/>
            <a:ext cx="2286000" cy="2205000"/>
            <a:chOff x="6858000" y="2309760"/>
            <a:chExt cx="2286000" cy="2205000"/>
          </a:xfrm>
        </p:grpSpPr>
        <p:sp>
          <p:nvSpPr>
            <p:cNvPr id="210" name=""/>
            <p:cNvSpPr/>
            <p:nvPr/>
          </p:nvSpPr>
          <p:spPr>
            <a:xfrm flipH="1">
              <a:off x="6858000" y="2647800"/>
              <a:ext cx="1168560" cy="1866960"/>
            </a:xfrm>
            <a:prstGeom prst="line">
              <a:avLst/>
            </a:prstGeom>
            <a:ln w="63360">
              <a:solidFill>
                <a:srgbClr val="ff66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118280" y="2309760"/>
              <a:ext cx="2025720" cy="3988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wheel bea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73160" y="2068560"/>
            <a:ext cx="2315880" cy="2585880"/>
            <a:chOff x="173160" y="2068560"/>
            <a:chExt cx="2315880" cy="2585880"/>
          </a:xfrm>
        </p:grpSpPr>
        <p:sp>
          <p:nvSpPr>
            <p:cNvPr id="213" name=""/>
            <p:cNvSpPr/>
            <p:nvPr/>
          </p:nvSpPr>
          <p:spPr>
            <a:xfrm>
              <a:off x="965160" y="2482920"/>
              <a:ext cx="1523880" cy="2171520"/>
            </a:xfrm>
            <a:prstGeom prst="line">
              <a:avLst/>
            </a:prstGeom>
            <a:ln w="63360">
              <a:solidFill>
                <a:srgbClr val="ff66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73160" y="2068560"/>
              <a:ext cx="1136520" cy="7038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wheel bea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1811160" y="1878120"/>
            <a:ext cx="2481480" cy="2935080"/>
            <a:chOff x="1811160" y="1878120"/>
            <a:chExt cx="2481480" cy="2935080"/>
          </a:xfrm>
        </p:grpSpPr>
        <p:sp>
          <p:nvSpPr>
            <p:cNvPr id="216" name=""/>
            <p:cNvSpPr/>
            <p:nvPr/>
          </p:nvSpPr>
          <p:spPr>
            <a:xfrm>
              <a:off x="2743200" y="2222640"/>
              <a:ext cx="1549440" cy="2590560"/>
            </a:xfrm>
            <a:prstGeom prst="line">
              <a:avLst/>
            </a:prstGeom>
            <a:ln w="63360">
              <a:solidFill>
                <a:srgbClr val="ff66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811160" y="1878120"/>
              <a:ext cx="1886040" cy="3988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edal bea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3301920" y="5257440"/>
            <a:ext cx="2516400" cy="1121400"/>
            <a:chOff x="3301920" y="5257440"/>
            <a:chExt cx="2516400" cy="1121400"/>
          </a:xfrm>
        </p:grpSpPr>
        <p:sp>
          <p:nvSpPr>
            <p:cNvPr id="219" name=""/>
            <p:cNvSpPr/>
            <p:nvPr/>
          </p:nvSpPr>
          <p:spPr>
            <a:xfrm>
              <a:off x="3932280" y="5979960"/>
              <a:ext cx="1886040" cy="3988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links in cha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 flipV="1">
              <a:off x="3301920" y="5257440"/>
              <a:ext cx="1663920" cy="787320"/>
            </a:xfrm>
            <a:prstGeom prst="line">
              <a:avLst/>
            </a:prstGeom>
            <a:ln w="63360">
              <a:solidFill>
                <a:srgbClr val="ff66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-4470480" y="2014560"/>
            <a:ext cx="4470480" cy="2727360"/>
          </a:xfrm>
          <a:prstGeom prst="leftArrow">
            <a:avLst>
              <a:gd name="adj1" fmla="val 50000"/>
              <a:gd name="adj2" fmla="val 40978"/>
            </a:avLst>
          </a:prstGeom>
          <a:solidFill>
            <a:srgbClr val="ff0000"/>
          </a:solidFill>
          <a:ln w="2570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81280" y="3119400"/>
            <a:ext cx="2895840" cy="39888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ir resistance or “drag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3504960" y="2927520"/>
            <a:ext cx="281916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516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What are the sources of friction?</a:t>
            </a:r>
            <a:endParaRPr b="1" lang="en-US" sz="2800" spc="-1" strike="noStrike">
              <a:solidFill>
                <a:srgbClr val="cc00cc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1" dur="1" fill="hold">
                                    <p:stCondLst>
                                      <p:cond evt="end">
                                        <p:tn val="147"/>
                                      </p:cond>
                                    </p:stCondLst>
                                  </p:cTn>
                                  <p:tgtEl>
                                    <p:spTgt spid="2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516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Effect of frictional forces</a:t>
            </a:r>
            <a:endParaRPr b="1" lang="en-US" sz="2800" spc="-1" strike="noStrike">
              <a:solidFill>
                <a:srgbClr val="cc00cc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7410600" y="133200"/>
            <a:ext cx="511200" cy="533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7" name="ShockwaveFlash1"/>
          <p:cNvGraphicFramePr/>
          <p:nvPr/>
        </p:nvGraphicFramePr>
        <p:xfrm>
          <a:off x="212760" y="800280"/>
          <a:ext cx="8699400" cy="5308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8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2760" y="800280"/>
                    <a:ext cx="869940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035000" y="847800"/>
            <a:ext cx="7056360" cy="718920"/>
          </a:xfrm>
          <a:prstGeom prst="roundRect">
            <a:avLst>
              <a:gd name="adj" fmla="val 43579"/>
            </a:avLst>
          </a:prstGeom>
          <a:solidFill>
            <a:srgbClr val="010066"/>
          </a:solidFill>
          <a:ln w="63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7K Forces and their Effe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859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Contents</a:t>
            </a:r>
            <a:endParaRPr b="1" lang="en-US" sz="2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971640" y="2060640"/>
            <a:ext cx="252360" cy="25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9840" y="2946240"/>
            <a:ext cx="252360" cy="252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98640" y="4719600"/>
            <a:ext cx="252360" cy="25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88920" y="3833640"/>
            <a:ext cx="252360" cy="252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482840" y="1862280"/>
            <a:ext cx="3243240" cy="647640"/>
          </a:xfrm>
          <a:prstGeom prst="roundRect">
            <a:avLst>
              <a:gd name="adj" fmla="val 43579"/>
            </a:avLst>
          </a:prstGeom>
          <a:solidFill>
            <a:srgbClr val="ffffff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Feel the fo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500120" y="4506840"/>
            <a:ext cx="3922920" cy="647640"/>
          </a:xfrm>
          <a:prstGeom prst="roundRect">
            <a:avLst>
              <a:gd name="adj" fmla="val 43579"/>
            </a:avLst>
          </a:prstGeom>
          <a:noFill/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cc00cc"/>
                </a:solidFill>
                <a:latin typeface="Arial"/>
                <a:ea typeface="Arial"/>
              </a:rPr>
              <a:t>Weight and m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482840" y="3625920"/>
            <a:ext cx="3555720" cy="647640"/>
          </a:xfrm>
          <a:prstGeom prst="roundRect">
            <a:avLst>
              <a:gd name="adj" fmla="val 43579"/>
            </a:avLst>
          </a:prstGeom>
          <a:solidFill>
            <a:srgbClr val="cc00cc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orces in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463760" y="2743200"/>
            <a:ext cx="2031840" cy="647640"/>
          </a:xfrm>
          <a:prstGeom prst="roundRect">
            <a:avLst>
              <a:gd name="adj" fmla="val 43579"/>
            </a:avLst>
          </a:prstGeom>
          <a:solidFill>
            <a:srgbClr val="ffffff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Fri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467000" y="5389560"/>
            <a:ext cx="4232160" cy="687240"/>
          </a:xfrm>
          <a:prstGeom prst="roundRect">
            <a:avLst>
              <a:gd name="adj" fmla="val 43579"/>
            </a:avLst>
          </a:prstGeom>
          <a:noFill/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cc00cc"/>
                </a:solidFill>
                <a:latin typeface="Arial"/>
                <a:ea typeface="Arial"/>
              </a:rPr>
              <a:t>Summary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8640" y="5607000"/>
            <a:ext cx="252360" cy="25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419040" y="2530440"/>
            <a:ext cx="8293320" cy="3565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693960" y="2478240"/>
            <a:ext cx="174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upthru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210800" y="4098960"/>
            <a:ext cx="138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ri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69440" y="4105440"/>
            <a:ext cx="11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ru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931920" y="5584680"/>
            <a:ext cx="13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we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11280" y="93996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What is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thrust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2640" y="939960"/>
            <a:ext cx="5697360" cy="459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The force that pushes an object </a:t>
            </a:r>
            <a:r>
              <a:rPr b="0" i="1" lang="en-US" sz="2400" spc="-1" strike="noStrike">
                <a:solidFill>
                  <a:srgbClr val="cc00cc"/>
                </a:solidFill>
                <a:latin typeface="Arial"/>
              </a:rPr>
              <a:t>forward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12000" y="172728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What is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upthrust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279600" y="1533600"/>
            <a:ext cx="576108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The force that pushes an object </a:t>
            </a:r>
            <a:r>
              <a:rPr b="0" i="1" lang="en-US" sz="2400" spc="-1" strike="noStrike">
                <a:solidFill>
                  <a:srgbClr val="cc00cc"/>
                </a:solidFill>
                <a:latin typeface="Arial"/>
              </a:rPr>
              <a:t>upwards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 in a liquid or a gas, also called buoyan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2838600" y="3260880"/>
            <a:ext cx="3474720" cy="259056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rot="5400000">
            <a:off x="2239200" y="3910680"/>
            <a:ext cx="371520" cy="976320"/>
          </a:xfrm>
          <a:prstGeom prst="downArrow">
            <a:avLst>
              <a:gd name="adj1" fmla="val 50000"/>
              <a:gd name="adj2" fmla="val 6569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 rot="10800000">
            <a:off x="4386240" y="5095800"/>
            <a:ext cx="371520" cy="519120"/>
          </a:xfrm>
          <a:prstGeom prst="downArrow">
            <a:avLst>
              <a:gd name="adj1" fmla="val 56417"/>
              <a:gd name="adj2" fmla="val 7520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 rot="10800000">
            <a:off x="4386240" y="3008160"/>
            <a:ext cx="371520" cy="519120"/>
          </a:xfrm>
          <a:prstGeom prst="downArrow">
            <a:avLst>
              <a:gd name="adj1" fmla="val 56417"/>
              <a:gd name="adj2" fmla="val 7520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 rot="16200000">
            <a:off x="6327000" y="3859920"/>
            <a:ext cx="371520" cy="1077840"/>
          </a:xfrm>
          <a:prstGeom prst="downArrow">
            <a:avLst>
              <a:gd name="adj1" fmla="val 49574"/>
              <a:gd name="adj2" fmla="val 1017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516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Forces in water</a:t>
            </a:r>
            <a:endParaRPr b="1" lang="en-US" sz="2800" spc="-1" strike="noStrike">
              <a:solidFill>
                <a:srgbClr val="cc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500"/>
                            </p:stCondLst>
                            <p:childTnLst>
                              <p:par>
                                <p:cTn id="1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3500"/>
                            </p:stCondLst>
                            <p:childTnLst>
                              <p:par>
                                <p:cTn id="2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4000"/>
                            </p:stCondLst>
                            <p:childTnLst>
                              <p:par>
                                <p:cTn id="2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500"/>
                            </p:stCondLst>
                            <p:childTnLst>
                              <p:par>
                                <p:cTn id="2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516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Ferry forces</a:t>
            </a:r>
            <a:endParaRPr b="1" lang="en-US" sz="2800" spc="-1" strike="noStrike">
              <a:solidFill>
                <a:srgbClr val="cc00cc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7410600" y="133200"/>
            <a:ext cx="511200" cy="533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1" name="ShockwaveFlash1"/>
          <p:cNvGraphicFramePr/>
          <p:nvPr/>
        </p:nvGraphicFramePr>
        <p:xfrm>
          <a:off x="212760" y="800280"/>
          <a:ext cx="8699400" cy="5308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2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2760" y="800280"/>
                    <a:ext cx="869940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11280" y="4589640"/>
            <a:ext cx="8229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What happens to the weight of the shi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What happens to the upthrust on the shi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Which is the largest force - weight or upthrust?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988320" y="4579920"/>
            <a:ext cx="1904760" cy="459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incre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983280" y="5684760"/>
            <a:ext cx="1905120" cy="459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both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983280" y="5132520"/>
            <a:ext cx="1905120" cy="459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incre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91840" y="711360"/>
            <a:ext cx="759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The ferry arrives at Calais and is loaded with travell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516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Changing forces</a:t>
            </a:r>
            <a:endParaRPr b="1" lang="en-US" sz="2800" spc="-1" strike="noStrike">
              <a:solidFill>
                <a:srgbClr val="cc00cc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7410600" y="133200"/>
            <a:ext cx="511200" cy="533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0" name="ShockwaveFlash1"/>
          <p:cNvGraphicFramePr/>
          <p:nvPr/>
        </p:nvGraphicFramePr>
        <p:xfrm>
          <a:off x="955800" y="1197000"/>
          <a:ext cx="7200720" cy="3295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1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55800" y="1197000"/>
                    <a:ext cx="7200720" cy="329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035000" y="847800"/>
            <a:ext cx="7056360" cy="718920"/>
          </a:xfrm>
          <a:prstGeom prst="roundRect">
            <a:avLst>
              <a:gd name="adj" fmla="val 43579"/>
            </a:avLst>
          </a:prstGeom>
          <a:solidFill>
            <a:srgbClr val="010066"/>
          </a:solidFill>
          <a:ln w="63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7K Forces and their Effe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859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Contents</a:t>
            </a:r>
            <a:endParaRPr b="1" lang="en-US" sz="2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971640" y="2060640"/>
            <a:ext cx="252360" cy="25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969840" y="2946240"/>
            <a:ext cx="252360" cy="252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998640" y="4719600"/>
            <a:ext cx="252360" cy="25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988920" y="3833640"/>
            <a:ext cx="252360" cy="252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482840" y="1862280"/>
            <a:ext cx="3243240" cy="647640"/>
          </a:xfrm>
          <a:prstGeom prst="roundRect">
            <a:avLst>
              <a:gd name="adj" fmla="val 43579"/>
            </a:avLst>
          </a:prstGeom>
          <a:solidFill>
            <a:srgbClr val="ffffff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Feel the fo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500120" y="4506840"/>
            <a:ext cx="3922920" cy="647640"/>
          </a:xfrm>
          <a:prstGeom prst="roundRect">
            <a:avLst>
              <a:gd name="adj" fmla="val 43579"/>
            </a:avLst>
          </a:prstGeom>
          <a:solidFill>
            <a:srgbClr val="cc00cc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eight and m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482840" y="3625920"/>
            <a:ext cx="3555720" cy="647640"/>
          </a:xfrm>
          <a:prstGeom prst="roundRect">
            <a:avLst>
              <a:gd name="adj" fmla="val 43579"/>
            </a:avLst>
          </a:prstGeom>
          <a:solidFill>
            <a:srgbClr val="ffffff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Forces in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463760" y="2743200"/>
            <a:ext cx="2031840" cy="647640"/>
          </a:xfrm>
          <a:prstGeom prst="roundRect">
            <a:avLst>
              <a:gd name="adj" fmla="val 43579"/>
            </a:avLst>
          </a:prstGeom>
          <a:solidFill>
            <a:srgbClr val="ffffff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Fri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67000" y="5389560"/>
            <a:ext cx="4232160" cy="687240"/>
          </a:xfrm>
          <a:prstGeom prst="roundRect">
            <a:avLst>
              <a:gd name="adj" fmla="val 43579"/>
            </a:avLst>
          </a:prstGeom>
          <a:noFill/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cc00cc"/>
                </a:solidFill>
                <a:latin typeface="Arial"/>
                <a:ea typeface="Arial"/>
              </a:rPr>
              <a:t>Summary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998640" y="5607000"/>
            <a:ext cx="252360" cy="25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593640" y="905040"/>
            <a:ext cx="633744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ss and weight are 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not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the sam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516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What are mass and weight?</a:t>
            </a:r>
            <a:endParaRPr b="1" lang="en-US" sz="2800" spc="-1" strike="noStrike">
              <a:solidFill>
                <a:srgbClr val="cc00cc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304920" y="1627200"/>
            <a:ext cx="8515080" cy="825480"/>
            <a:chOff x="304920" y="1627200"/>
            <a:chExt cx="8515080" cy="825480"/>
          </a:xfrm>
        </p:grpSpPr>
        <p:sp>
          <p:nvSpPr>
            <p:cNvPr id="287" name=""/>
            <p:cNvSpPr/>
            <p:nvPr/>
          </p:nvSpPr>
          <p:spPr>
            <a:xfrm>
              <a:off x="611280" y="1627200"/>
              <a:ext cx="8208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cc"/>
                  </a:solidFill>
                  <a:latin typeface="Arial"/>
                </a:rPr>
                <a:t>Mass</a:t>
              </a: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10066"/>
                  </a:solidFill>
                  <a:latin typeface="Arial"/>
                </a:rPr>
                <a:t>is the</a:t>
              </a:r>
              <a:r>
                <a:rPr b="0" lang="en-US" sz="2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cc00cc"/>
                  </a:solidFill>
                  <a:latin typeface="Arial"/>
                </a:rPr>
                <a:t>amount of matter</a:t>
              </a:r>
              <a:r>
                <a:rPr b="0" lang="en-US" sz="2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10066"/>
                  </a:solidFill>
                  <a:latin typeface="Arial"/>
                </a:rPr>
                <a:t>in an object and is measured in</a:t>
              </a:r>
              <a:r>
                <a:rPr b="0" lang="en-US" sz="2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cc00cc"/>
                  </a:solidFill>
                  <a:latin typeface="Arial"/>
                </a:rPr>
                <a:t>kilograms</a:t>
              </a:r>
              <a:r>
                <a:rPr b="0" lang="en-US" sz="2400" spc="-1" strike="noStrike">
                  <a:solidFill>
                    <a:srgbClr val="010066"/>
                  </a:solidFill>
                  <a:latin typeface="Arial"/>
                </a:rPr>
                <a:t>. Mass is not a forc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04920" y="1728720"/>
              <a:ext cx="252360" cy="25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00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324000" y="3776760"/>
            <a:ext cx="8208720" cy="1191240"/>
            <a:chOff x="324000" y="3776760"/>
            <a:chExt cx="8208720" cy="1191240"/>
          </a:xfrm>
        </p:grpSpPr>
        <p:sp>
          <p:nvSpPr>
            <p:cNvPr id="290" name=""/>
            <p:cNvSpPr/>
            <p:nvPr/>
          </p:nvSpPr>
          <p:spPr>
            <a:xfrm>
              <a:off x="611280" y="3776760"/>
              <a:ext cx="7921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cc"/>
                  </a:solidFill>
                  <a:latin typeface="Arial"/>
                </a:rPr>
                <a:t>Weight</a:t>
              </a:r>
              <a:r>
                <a:rPr b="0" lang="en-US" sz="2400" spc="-1" strike="noStrike">
                  <a:solidFill>
                    <a:srgbClr val="cc00cc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10066"/>
                  </a:solidFill>
                  <a:latin typeface="Arial"/>
                </a:rPr>
                <a:t>is a</a:t>
              </a:r>
              <a:r>
                <a:rPr b="0" lang="en-US" sz="2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cc00cc"/>
                  </a:solidFill>
                  <a:latin typeface="Arial"/>
                </a:rPr>
                <a:t>force</a:t>
              </a:r>
              <a:r>
                <a:rPr b="0" lang="en-US" sz="2400" spc="-1" strike="noStrike">
                  <a:solidFill>
                    <a:srgbClr val="ff66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10066"/>
                  </a:solidFill>
                  <a:latin typeface="Arial"/>
                </a:rPr>
                <a:t>and is caused by the pull of gravity acting on a mass. Like other forces, weight is measured in</a:t>
              </a:r>
              <a:r>
                <a:rPr b="0" lang="en-US" sz="2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cc00cc"/>
                  </a:solidFill>
                  <a:latin typeface="Arial"/>
                </a:rPr>
                <a:t>newtons</a:t>
              </a:r>
              <a:r>
                <a:rPr b="0" lang="en-US" sz="2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10066"/>
                  </a:solidFill>
                  <a:latin typeface="Arial"/>
                </a:rPr>
                <a:t>and has both magnitude and direction</a:t>
              </a:r>
              <a:r>
                <a:rPr b="0" lang="en-US" sz="2400" spc="-1" strike="noStrike">
                  <a:solidFill>
                    <a:srgbClr val="000099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24000" y="3882960"/>
              <a:ext cx="252360" cy="25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00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608040" y="253836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Mass will have the same value anywhere in the Universe, including outer sp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14520" y="5054760"/>
            <a:ext cx="804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Weight has different values depending on where you are in the Univer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028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Weight and mass on the Moon</a:t>
            </a:r>
            <a:endParaRPr b="1" lang="en-US" sz="2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2200" y="701640"/>
            <a:ext cx="5016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The force of gravity is less on the Moon than it is on Earth. This is because the Moon has a smaller mass than the Ear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6084720" y="952560"/>
            <a:ext cx="2476800" cy="495288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704880" y="4537080"/>
            <a:ext cx="5316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However, the astronaut still has the same body and the same mass: he just weighs less because gravity is weaker on the M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88960" y="2336760"/>
            <a:ext cx="501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Any object will weigh less on the Moon than it does on Ear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95440" y="3257640"/>
            <a:ext cx="501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An astronaut could jump 20 feet into the air on the Moon because gravity is l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3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3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035000" y="847800"/>
            <a:ext cx="7056360" cy="718920"/>
          </a:xfrm>
          <a:prstGeom prst="roundRect">
            <a:avLst>
              <a:gd name="adj" fmla="val 43579"/>
            </a:avLst>
          </a:prstGeom>
          <a:solidFill>
            <a:srgbClr val="010066"/>
          </a:solidFill>
          <a:ln w="63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7K Forces and their Effe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859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Contents</a:t>
            </a:r>
            <a:endParaRPr b="1" lang="en-US" sz="2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71640" y="2060640"/>
            <a:ext cx="252360" cy="25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69840" y="2946240"/>
            <a:ext cx="252360" cy="252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8640" y="4719600"/>
            <a:ext cx="252360" cy="25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88920" y="3833640"/>
            <a:ext cx="252360" cy="252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82840" y="1862280"/>
            <a:ext cx="3243240" cy="647640"/>
          </a:xfrm>
          <a:prstGeom prst="roundRect">
            <a:avLst>
              <a:gd name="adj" fmla="val 43579"/>
            </a:avLst>
          </a:prstGeom>
          <a:solidFill>
            <a:srgbClr val="cc00cc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eel the fo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00120" y="4506840"/>
            <a:ext cx="3922920" cy="647640"/>
          </a:xfrm>
          <a:prstGeom prst="roundRect">
            <a:avLst>
              <a:gd name="adj" fmla="val 43579"/>
            </a:avLst>
          </a:prstGeom>
          <a:noFill/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cc00cc"/>
                </a:solidFill>
                <a:latin typeface="Arial"/>
                <a:ea typeface="Arial"/>
              </a:rPr>
              <a:t>Weight and m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82840" y="3625920"/>
            <a:ext cx="3555720" cy="647640"/>
          </a:xfrm>
          <a:prstGeom prst="roundRect">
            <a:avLst>
              <a:gd name="adj" fmla="val 43579"/>
            </a:avLst>
          </a:prstGeom>
          <a:noFill/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cc00cc"/>
                </a:solidFill>
                <a:latin typeface="Arial"/>
                <a:ea typeface="Arial"/>
              </a:rPr>
              <a:t>Forces in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63760" y="2743200"/>
            <a:ext cx="2031840" cy="647640"/>
          </a:xfrm>
          <a:prstGeom prst="roundRect">
            <a:avLst>
              <a:gd name="adj" fmla="val 43579"/>
            </a:avLst>
          </a:prstGeom>
          <a:noFill/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  <a:ea typeface="Arial"/>
              </a:rPr>
              <a:t> </a:t>
            </a:r>
            <a:r>
              <a:rPr b="1" lang="en-GB" sz="3200" spc="-1" strike="noStrike">
                <a:solidFill>
                  <a:srgbClr val="cc00cc"/>
                </a:solidFill>
                <a:latin typeface="Arial"/>
                <a:ea typeface="Arial"/>
              </a:rPr>
              <a:t>Fri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67000" y="5389560"/>
            <a:ext cx="4232160" cy="687240"/>
          </a:xfrm>
          <a:prstGeom prst="roundRect">
            <a:avLst>
              <a:gd name="adj" fmla="val 43579"/>
            </a:avLst>
          </a:prstGeom>
          <a:noFill/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cc00cc"/>
                </a:solidFill>
                <a:latin typeface="Arial"/>
                <a:ea typeface="Arial"/>
              </a:rPr>
              <a:t>Summary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98640" y="5607000"/>
            <a:ext cx="252360" cy="25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611280" y="893880"/>
            <a:ext cx="7432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A scientist should never sa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10066"/>
                </a:solidFill>
                <a:latin typeface="Arial"/>
              </a:rPr>
              <a:t>She </a:t>
            </a:r>
            <a:r>
              <a:rPr b="1" i="1" lang="en-US" sz="2400" spc="-1" strike="noStrike">
                <a:solidFill>
                  <a:srgbClr val="cc00cc"/>
                </a:solidFill>
                <a:latin typeface="Arial"/>
              </a:rPr>
              <a:t>weighs</a:t>
            </a:r>
            <a:r>
              <a:rPr b="1" i="1" lang="en-US" sz="24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10066"/>
                </a:solidFill>
                <a:latin typeface="Arial"/>
              </a:rPr>
              <a:t>50 kilograms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,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but should always sa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516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Talking about weight and mass</a:t>
            </a:r>
            <a:endParaRPr b="1" lang="en-US" sz="2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08040" y="2538360"/>
            <a:ext cx="743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10066"/>
                </a:solidFill>
                <a:latin typeface="Arial"/>
              </a:rPr>
              <a:t>She has a </a:t>
            </a:r>
            <a:r>
              <a:rPr b="1" i="1" lang="en-US" sz="2400" spc="-1" strike="noStrike">
                <a:solidFill>
                  <a:srgbClr val="cc00cc"/>
                </a:solidFill>
                <a:latin typeface="Arial"/>
              </a:rPr>
              <a:t>mass</a:t>
            </a:r>
            <a:r>
              <a:rPr b="0" i="1" lang="en-US" sz="24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10066"/>
                </a:solidFill>
                <a:latin typeface="Arial"/>
              </a:rPr>
              <a:t>of 50 kilograms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8480" y="5373720"/>
            <a:ext cx="743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 “</a:t>
            </a:r>
            <a:r>
              <a:rPr b="0" i="1" lang="en-US" sz="2400" spc="-1" strike="noStrike">
                <a:solidFill>
                  <a:srgbClr val="010066"/>
                </a:solidFill>
                <a:latin typeface="Arial"/>
              </a:rPr>
              <a:t>Her weight is about 500 newtons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15600" y="3362400"/>
            <a:ext cx="50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Alternatively, the scientist could sa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517760" y="3905280"/>
            <a:ext cx="640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10066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cc00cc"/>
                </a:solidFill>
                <a:latin typeface="Arial"/>
              </a:rPr>
              <a:t>gravitational force</a:t>
            </a:r>
            <a:r>
              <a:rPr b="0" i="1" lang="en-US" sz="2400" spc="-1" strike="noStrike">
                <a:solidFill>
                  <a:srgbClr val="010066"/>
                </a:solidFill>
                <a:latin typeface="Arial"/>
              </a:rPr>
              <a:t> acting on her mass is about 500 newtons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14880" y="4819680"/>
            <a:ext cx="385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This is the same as say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3000" y="126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Weight and mass on different planets</a:t>
            </a:r>
            <a:endParaRPr b="1" lang="en-US" sz="2800" spc="-1" strike="noStrike">
              <a:solidFill>
                <a:srgbClr val="cc00cc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7410600" y="133200"/>
            <a:ext cx="511200" cy="533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9" name="ShockwaveFlash1"/>
          <p:cNvGraphicFramePr/>
          <p:nvPr/>
        </p:nvGraphicFramePr>
        <p:xfrm>
          <a:off x="212760" y="800280"/>
          <a:ext cx="8699400" cy="5308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0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2760" y="800280"/>
                    <a:ext cx="869940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516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Weight or mass?</a:t>
            </a:r>
            <a:endParaRPr b="1" lang="en-US" sz="2800" spc="-1" strike="noStrike">
              <a:solidFill>
                <a:srgbClr val="cc00cc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410600" y="133200"/>
            <a:ext cx="511200" cy="533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3" name="ShockwaveFlash1"/>
          <p:cNvGraphicFramePr/>
          <p:nvPr/>
        </p:nvGraphicFramePr>
        <p:xfrm>
          <a:off x="212760" y="800280"/>
          <a:ext cx="8699400" cy="5308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4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2760" y="800280"/>
                    <a:ext cx="869940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035000" y="847800"/>
            <a:ext cx="7056360" cy="718920"/>
          </a:xfrm>
          <a:prstGeom prst="roundRect">
            <a:avLst>
              <a:gd name="adj" fmla="val 43579"/>
            </a:avLst>
          </a:prstGeom>
          <a:solidFill>
            <a:srgbClr val="010066"/>
          </a:solidFill>
          <a:ln w="63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7K Forces and their Effe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859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Contents</a:t>
            </a:r>
            <a:endParaRPr b="1" lang="en-US" sz="2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971640" y="2060640"/>
            <a:ext cx="252360" cy="25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969840" y="2946240"/>
            <a:ext cx="252360" cy="252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98640" y="4719600"/>
            <a:ext cx="252360" cy="25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88920" y="3833640"/>
            <a:ext cx="252360" cy="252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482840" y="1862280"/>
            <a:ext cx="3243240" cy="647640"/>
          </a:xfrm>
          <a:prstGeom prst="roundRect">
            <a:avLst>
              <a:gd name="adj" fmla="val 43579"/>
            </a:avLst>
          </a:prstGeom>
          <a:solidFill>
            <a:srgbClr val="ffffff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Feel the fo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500120" y="4506840"/>
            <a:ext cx="3922920" cy="647640"/>
          </a:xfrm>
          <a:prstGeom prst="roundRect">
            <a:avLst>
              <a:gd name="adj" fmla="val 43579"/>
            </a:avLst>
          </a:prstGeom>
          <a:solidFill>
            <a:srgbClr val="ffffff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Weight and m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482840" y="3625920"/>
            <a:ext cx="3555720" cy="647640"/>
          </a:xfrm>
          <a:prstGeom prst="roundRect">
            <a:avLst>
              <a:gd name="adj" fmla="val 43579"/>
            </a:avLst>
          </a:prstGeom>
          <a:solidFill>
            <a:srgbClr val="ffffff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Forces in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63760" y="2743200"/>
            <a:ext cx="2031840" cy="647640"/>
          </a:xfrm>
          <a:prstGeom prst="roundRect">
            <a:avLst>
              <a:gd name="adj" fmla="val 43579"/>
            </a:avLst>
          </a:prstGeom>
          <a:solidFill>
            <a:srgbClr val="ffffff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Fri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467000" y="5389560"/>
            <a:ext cx="4232160" cy="687240"/>
          </a:xfrm>
          <a:prstGeom prst="roundRect">
            <a:avLst>
              <a:gd name="adj" fmla="val 43579"/>
            </a:avLst>
          </a:prstGeom>
          <a:solidFill>
            <a:srgbClr val="cc00cc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ummary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998640" y="5607000"/>
            <a:ext cx="252360" cy="25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516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Glossary</a:t>
            </a:r>
            <a:endParaRPr b="1" lang="en-US" sz="2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33280" y="695160"/>
            <a:ext cx="8774280" cy="54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90000"/>
              </a:lnSpc>
              <a:buClr>
                <a:srgbClr val="cc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cc"/>
                </a:solidFill>
                <a:latin typeface="Arial"/>
              </a:rPr>
              <a:t>air resistance –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A frictional force that acts against an object moving through a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buClr>
                <a:srgbClr val="cc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buClr>
                <a:srgbClr val="cc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cc"/>
                </a:solidFill>
                <a:latin typeface="Arial"/>
              </a:rPr>
              <a:t>force –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A push or a pull, measured in newtons (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buClr>
                <a:srgbClr val="01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buClr>
                <a:srgbClr val="cc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cc"/>
                </a:solidFill>
                <a:latin typeface="Arial"/>
              </a:rPr>
              <a:t>friction –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A force that occurs between two surfaces rubbing against each 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buClr>
                <a:srgbClr val="01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buClr>
                <a:srgbClr val="cc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cc"/>
                </a:solidFill>
                <a:latin typeface="Arial"/>
              </a:rPr>
              <a:t>gravity</a:t>
            </a:r>
            <a:r>
              <a:rPr b="0" lang="en-GB" sz="28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cc00cc"/>
                </a:solidFill>
                <a:latin typeface="Arial"/>
              </a:rPr>
              <a:t>–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he force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of attraction between two obj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buClr>
                <a:srgbClr val="01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buClr>
                <a:srgbClr val="cc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cc"/>
                </a:solidFill>
                <a:latin typeface="Arial"/>
              </a:rPr>
              <a:t>mass –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he amount of matter that an object is made of, measured in kilograms (kg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buClr>
                <a:srgbClr val="01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buClr>
                <a:srgbClr val="cc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cc"/>
                </a:solidFill>
                <a:latin typeface="Arial"/>
              </a:rPr>
              <a:t>thrust –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A force that pushes an object forwa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buClr>
                <a:srgbClr val="01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buClr>
                <a:srgbClr val="cc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cc"/>
                </a:solidFill>
                <a:latin typeface="Arial"/>
              </a:rPr>
              <a:t>upthrust –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A force that pushes an object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upwa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buClr>
                <a:srgbClr val="01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buClr>
                <a:srgbClr val="cc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cc"/>
                </a:solidFill>
                <a:latin typeface="Arial"/>
              </a:rPr>
              <a:t>weight –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he force caused by gravity acting on an object,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measured in newtons (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516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Anagrams</a:t>
            </a:r>
            <a:endParaRPr b="1" lang="en-US" sz="2800" spc="-1" strike="noStrike">
              <a:solidFill>
                <a:srgbClr val="cc00cc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7410600" y="133200"/>
            <a:ext cx="511200" cy="533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1" name="ShockwaveFlash1"/>
          <p:cNvGraphicFramePr/>
          <p:nvPr/>
        </p:nvGraphicFramePr>
        <p:xfrm>
          <a:off x="212760" y="800280"/>
          <a:ext cx="8699400" cy="5308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2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2760" y="800280"/>
                    <a:ext cx="869940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516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Missing words</a:t>
            </a:r>
            <a:endParaRPr b="1" lang="en-US" sz="2800" spc="-1" strike="noStrike">
              <a:solidFill>
                <a:srgbClr val="cc00cc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7410600" y="133200"/>
            <a:ext cx="511200" cy="533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5" name="ShockwaveFlash1"/>
          <p:cNvGraphicFramePr/>
          <p:nvPr/>
        </p:nvGraphicFramePr>
        <p:xfrm>
          <a:off x="212760" y="800280"/>
          <a:ext cx="8699400" cy="5308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6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2760" y="800280"/>
                    <a:ext cx="869940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516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Multiple-choice quiz</a:t>
            </a:r>
            <a:endParaRPr b="1" lang="en-US" sz="2800" spc="-1" strike="noStrike">
              <a:solidFill>
                <a:srgbClr val="cc00cc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7410600" y="133200"/>
            <a:ext cx="511200" cy="533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9" name="ShockwaveFlash1"/>
          <p:cNvGraphicFramePr/>
          <p:nvPr/>
        </p:nvGraphicFramePr>
        <p:xfrm>
          <a:off x="212760" y="800280"/>
          <a:ext cx="8699400" cy="5308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0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2760" y="800280"/>
                    <a:ext cx="869940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01560" y="708120"/>
            <a:ext cx="821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A force is a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push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 pull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r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twist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.  A force cannot be seen but you can see how a force affects an obj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516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What is a force? </a:t>
            </a:r>
            <a:endParaRPr b="1" lang="en-US" sz="2800" spc="-1" strike="noStrike">
              <a:solidFill>
                <a:srgbClr val="cc00cc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410600" y="133200"/>
            <a:ext cx="511200" cy="533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ShockwaveFlash1"/>
          <p:cNvGraphicFramePr/>
          <p:nvPr/>
        </p:nvGraphicFramePr>
        <p:xfrm>
          <a:off x="725400" y="1568520"/>
          <a:ext cx="7696440" cy="469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9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5400" y="1568520"/>
                    <a:ext cx="7696440" cy="469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516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cc"/>
                </a:solidFill>
                <a:latin typeface="Arial"/>
              </a:rPr>
              <a:t>      </a:t>
            </a:r>
            <a:r>
              <a:rPr b="1" lang="en-GB" sz="2800" spc="-1" strike="noStrike">
                <a:solidFill>
                  <a:srgbClr val="cc00cc"/>
                </a:solidFill>
                <a:latin typeface="Arial"/>
              </a:rPr>
              <a:t>Forces activity</a:t>
            </a:r>
            <a:endParaRPr b="1" lang="en-US" sz="2800" spc="-1" strike="noStrike">
              <a:solidFill>
                <a:srgbClr val="cc00cc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410600" y="133200"/>
            <a:ext cx="511200" cy="533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2" name="ShockwaveFlash1"/>
          <p:cNvGraphicFramePr/>
          <p:nvPr/>
        </p:nvGraphicFramePr>
        <p:xfrm>
          <a:off x="212760" y="800280"/>
          <a:ext cx="8699400" cy="5308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3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2760" y="800280"/>
                    <a:ext cx="869940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0" y="1447920"/>
            <a:ext cx="1709640" cy="1406520"/>
            <a:chOff x="0" y="1447920"/>
            <a:chExt cx="1709640" cy="1406520"/>
          </a:xfrm>
        </p:grpSpPr>
        <p:sp>
          <p:nvSpPr>
            <p:cNvPr id="145" name=""/>
            <p:cNvSpPr/>
            <p:nvPr/>
          </p:nvSpPr>
          <p:spPr>
            <a:xfrm>
              <a:off x="0" y="1447920"/>
              <a:ext cx="1709640" cy="1406520"/>
            </a:xfrm>
            <a:prstGeom prst="leftArrow">
              <a:avLst>
                <a:gd name="adj1" fmla="val 50000"/>
                <a:gd name="adj2" fmla="val 30388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70000" y="1878120"/>
              <a:ext cx="122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10 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7434360" y="1436760"/>
            <a:ext cx="1833480" cy="1406520"/>
            <a:chOff x="7434360" y="1436760"/>
            <a:chExt cx="1833480" cy="1406520"/>
          </a:xfrm>
        </p:grpSpPr>
        <p:sp>
          <p:nvSpPr>
            <p:cNvPr id="148" name=""/>
            <p:cNvSpPr/>
            <p:nvPr/>
          </p:nvSpPr>
          <p:spPr>
            <a:xfrm>
              <a:off x="7434360" y="1436760"/>
              <a:ext cx="1709640" cy="1406520"/>
            </a:xfrm>
            <a:prstGeom prst="rightArrow">
              <a:avLst>
                <a:gd name="adj1" fmla="val 50000"/>
                <a:gd name="adj2" fmla="val 30388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042400" y="1873080"/>
              <a:ext cx="122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10 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611280" y="350028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If you link two forcemeters and pull equally hard from both ends, the forces recorded on both will be the sa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6904080" cy="2016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079800" y="1219320"/>
            <a:ext cx="2951280" cy="5205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balanced fo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516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When forces are balanced</a:t>
            </a:r>
            <a:endParaRPr b="1" lang="en-US" sz="2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960" y="441648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The forces acting on the central hooks cancel each other out – they are equal in magnitude and opposite in direc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8040" y="532620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Because the</a:t>
            </a: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forces ar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balanced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the hooks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do not move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0" y="1457280"/>
            <a:ext cx="1709640" cy="1406520"/>
            <a:chOff x="0" y="1457280"/>
            <a:chExt cx="1709640" cy="1406520"/>
          </a:xfrm>
        </p:grpSpPr>
        <p:sp>
          <p:nvSpPr>
            <p:cNvPr id="157" name=""/>
            <p:cNvSpPr/>
            <p:nvPr/>
          </p:nvSpPr>
          <p:spPr>
            <a:xfrm>
              <a:off x="0" y="1457280"/>
              <a:ext cx="1709640" cy="1406520"/>
            </a:xfrm>
            <a:prstGeom prst="leftArrow">
              <a:avLst>
                <a:gd name="adj1" fmla="val 50000"/>
                <a:gd name="adj2" fmla="val 30388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90520" y="1889280"/>
              <a:ext cx="122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11 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7434360" y="1446120"/>
            <a:ext cx="1860480" cy="1406520"/>
            <a:chOff x="7434360" y="1446120"/>
            <a:chExt cx="1860480" cy="1406520"/>
          </a:xfrm>
        </p:grpSpPr>
        <p:sp>
          <p:nvSpPr>
            <p:cNvPr id="160" name=""/>
            <p:cNvSpPr/>
            <p:nvPr/>
          </p:nvSpPr>
          <p:spPr>
            <a:xfrm>
              <a:off x="7434360" y="1446120"/>
              <a:ext cx="1709640" cy="1406520"/>
            </a:xfrm>
            <a:prstGeom prst="rightArrow">
              <a:avLst>
                <a:gd name="adj1" fmla="val 50000"/>
                <a:gd name="adj2" fmla="val 30388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069400" y="1879560"/>
              <a:ext cx="122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10 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6904080" cy="2016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03360" y="3444840"/>
            <a:ext cx="83613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What happens if the pull on one end is greater than the pull on the other en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97200" y="1197000"/>
            <a:ext cx="3529080" cy="5205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66"/>
                </a:solidFill>
                <a:latin typeface="Arial"/>
              </a:rPr>
              <a:t>unbalanced fo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916360" y="2492280"/>
            <a:ext cx="1623960" cy="549360"/>
          </a:xfrm>
          <a:prstGeom prst="leftArrow">
            <a:avLst>
              <a:gd name="adj1" fmla="val 50000"/>
              <a:gd name="adj2" fmla="val 73902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v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516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When forces are unbalanced</a:t>
            </a:r>
            <a:endParaRPr b="1" lang="en-US" sz="2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00120" y="4356000"/>
            <a:ext cx="836136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The forces acting on the hooks are no longer balanc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Both hooks will start to move to the left – their </a:t>
            </a: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speed will change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. This is called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acceleration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0120" y="5632560"/>
            <a:ext cx="83613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Unbalanced forces lead to a change in speed or dir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516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Balanced or unbalanced forces? </a:t>
            </a:r>
            <a:endParaRPr b="1" lang="en-US" sz="2800" spc="-1" strike="noStrike">
              <a:solidFill>
                <a:srgbClr val="cc00cc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410600" y="133200"/>
            <a:ext cx="511200" cy="533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1" name="ShockwaveFlash1"/>
          <p:cNvGraphicFramePr/>
          <p:nvPr/>
        </p:nvGraphicFramePr>
        <p:xfrm>
          <a:off x="212760" y="800280"/>
          <a:ext cx="8699400" cy="5308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2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2760" y="800280"/>
                    <a:ext cx="869940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035000" y="847800"/>
            <a:ext cx="7056360" cy="718920"/>
          </a:xfrm>
          <a:prstGeom prst="roundRect">
            <a:avLst>
              <a:gd name="adj" fmla="val 43579"/>
            </a:avLst>
          </a:prstGeom>
          <a:solidFill>
            <a:srgbClr val="010066"/>
          </a:solidFill>
          <a:ln w="63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7K Forces and their Effe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859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Contents</a:t>
            </a:r>
            <a:endParaRPr b="1" lang="en-US" sz="2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71640" y="2060640"/>
            <a:ext cx="252360" cy="25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69840" y="2946240"/>
            <a:ext cx="252360" cy="252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8640" y="4719600"/>
            <a:ext cx="252360" cy="25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88920" y="3833640"/>
            <a:ext cx="252360" cy="252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482840" y="1862280"/>
            <a:ext cx="3243240" cy="647640"/>
          </a:xfrm>
          <a:prstGeom prst="roundRect">
            <a:avLst>
              <a:gd name="adj" fmla="val 43579"/>
            </a:avLst>
          </a:prstGeom>
          <a:solidFill>
            <a:srgbClr val="ffffff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Feel the fo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00120" y="4506840"/>
            <a:ext cx="3922920" cy="647640"/>
          </a:xfrm>
          <a:prstGeom prst="roundRect">
            <a:avLst>
              <a:gd name="adj" fmla="val 43579"/>
            </a:avLst>
          </a:prstGeom>
          <a:noFill/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cc00cc"/>
                </a:solidFill>
                <a:latin typeface="Arial"/>
                <a:ea typeface="Arial"/>
              </a:rPr>
              <a:t>Weight and m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482840" y="3625920"/>
            <a:ext cx="3555720" cy="647640"/>
          </a:xfrm>
          <a:prstGeom prst="roundRect">
            <a:avLst>
              <a:gd name="adj" fmla="val 43579"/>
            </a:avLst>
          </a:prstGeom>
          <a:noFill/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cc00cc"/>
                </a:solidFill>
                <a:latin typeface="Arial"/>
                <a:ea typeface="Arial"/>
              </a:rPr>
              <a:t>Forces in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463760" y="2743200"/>
            <a:ext cx="2031840" cy="647640"/>
          </a:xfrm>
          <a:prstGeom prst="roundRect">
            <a:avLst>
              <a:gd name="adj" fmla="val 43579"/>
            </a:avLst>
          </a:prstGeom>
          <a:solidFill>
            <a:srgbClr val="cc00cc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Fri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467000" y="5389560"/>
            <a:ext cx="4232160" cy="687240"/>
          </a:xfrm>
          <a:prstGeom prst="roundRect">
            <a:avLst>
              <a:gd name="adj" fmla="val 43579"/>
            </a:avLst>
          </a:prstGeom>
          <a:noFill/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cc00cc"/>
                </a:solidFill>
                <a:latin typeface="Arial"/>
                <a:ea typeface="Arial"/>
              </a:rPr>
              <a:t>Summary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98640" y="5607000"/>
            <a:ext cx="252360" cy="25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577800" y="701640"/>
            <a:ext cx="42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If you rub your hands together they get warm. </a:t>
            </a:r>
            <a:br>
              <a:rPr sz="2400"/>
            </a:b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There is resistance to the rubbing mo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3640" y="2349360"/>
            <a:ext cx="383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What is the name of this resistive force cal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92200" y="4005360"/>
            <a:ext cx="34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What causes this for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92200" y="4676760"/>
            <a:ext cx="8300880" cy="1191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Your hands might look smooth, but on a microscopic level they have rough surfaces. So when you rub your hands together you feel the resistive force of fri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516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What is friction?</a:t>
            </a:r>
            <a:endParaRPr b="1" lang="en-US" sz="2800" spc="-1" strike="noStrike">
              <a:solidFill>
                <a:srgbClr val="cc00cc"/>
              </a:solidFill>
              <a:latin typeface="Arial"/>
            </a:endParaRPr>
          </a:p>
        </p:txBody>
      </p:sp>
      <p:graphicFrame>
        <p:nvGraphicFramePr>
          <p:cNvPr id="190" name="ShockwaveFlash1"/>
          <p:cNvGraphicFramePr/>
          <p:nvPr/>
        </p:nvGraphicFramePr>
        <p:xfrm>
          <a:off x="4427640" y="752400"/>
          <a:ext cx="4572000" cy="381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752400"/>
                    <a:ext cx="4572000" cy="38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406440" y="332748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It is called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friction</a:t>
            </a: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3T14:30:27Z</dcterms:created>
  <dc:creator>Boardworks Ltd</dc:creator>
  <dc:description/>
  <dc:language>en-US</dc:language>
  <cp:lastModifiedBy>Rosemary Cleary</cp:lastModifiedBy>
  <cp:lastPrinted>2000-09-06T14:07:33Z</cp:lastPrinted>
  <dcterms:modified xsi:type="dcterms:W3CDTF">2006-03-20T12:07:50Z</dcterms:modified>
  <cp:revision>486</cp:revision>
  <dc:subject>KS3 Physics</dc:subject>
  <dc:title>7K Forces and their Effects</dc:title>
</cp:coreProperties>
</file>